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B59-1104-4E19-8CF5-9596B9B2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388-666D-42ED-AF8B-3CA7C83D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9C6-65D7-4005-A660-F9D06B8E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6B8-7A24-4A36-BB33-EA239CC3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0DBC-7C2F-4BFB-B85C-A85A8070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BA55-28EA-40D0-80E0-956912B5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3E1E-7D04-431B-9F45-FF1D949C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37D2-5062-4E67-80FC-B68324BF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F864-BC21-4437-BA7F-AF63EB17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15AE-487E-4D85-8B2D-0B096BFD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981F-9AAB-470C-8BC1-1510AE8C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748-901F-4744-BF37-A03E43A9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CD97-F7BD-4A36-9E99-CAF844DA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3F8E-8785-41C4-87A3-A72BE4D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A366-D1D7-4213-8E32-80EED14C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D519-1732-4C99-9149-4C526385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C20F-96CB-4A12-A54B-5B231512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E82-367F-4139-A816-833161D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09E-3989-4D2F-9BBC-4823EF53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CBE-A3AA-4CB2-A9F8-AC5C6FD7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BF0-A464-4B31-B699-313C2C2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FC0-1279-4140-BCA4-F171A66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4B2-84F8-40CE-B43D-5B9FA059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B8A-BBB6-451B-8C9F-A594217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45C5-BF69-4288-8EE0-FBEE83F7040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3C48-EB82-4F01-8015-DCEFF83425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ctive : investigate :: Journalist : 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, report, intrigue, instigate, inst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dio : hearing :: tactile : _____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on, taste, touch, sm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55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llel structure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ot Parallel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eacher said that he was a poor student because he wai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il the last minute to study for the exam, comple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s lab problems in a careless manner, and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is motivation w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ow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arallel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eacher said that he was a poor student because he wai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il the last minute to study for the exam, complet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s lab problems in a careless manner, and lac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write: 5 mi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bout any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iom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meant by the following idio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lessing in disgu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p on your shou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rop in the buc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fuel to the f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ap on the w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same bo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cabulary practice-May change tens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_______ in thinking you don’t have to study to p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vie was so _______ that the woman didn’t hear her baby c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ugger _______ the woman in the pa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hope you do not lead an ________ lif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should be ashamed of your ________ behav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Jungle-535 Questions to answer as we rea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id the family go to Chicago after arriving in Americ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family most afraid of and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as the area around the stockyards lik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last paragraph the narrator chooses to use the pronou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is the family friend described as “mythical”? What does the family think will happen now that they have met up with hi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as the boarding house lik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morr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ish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writing assig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y for t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6:07:55Z</dcterms:created>
  <dc:creator>Angie</dc:creator>
  <dc:description/>
  <dc:language>en-US</dc:language>
  <cp:lastModifiedBy>rebecca</cp:lastModifiedBy>
  <dcterms:modified xsi:type="dcterms:W3CDTF">2009-02-03T14:27:34Z</dcterms:modified>
  <cp:revision>3</cp:revision>
  <dc:subject/>
  <dc:title>DOA</dc:title>
</cp:coreProperties>
</file>